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B08C-D282-48DB-91EE-77570FFA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003E-F112-4931-B52D-B5D31E8D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9F170-591F-498E-A16F-7590FAB2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21FC7-ED6D-468C-8004-1A269CDF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18CB3-A676-4195-A1D6-6FCC909B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D386D-3FA8-4131-B88D-C540934E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86BD7-75EE-47E3-A0BA-F99B2F4A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5DA06-0CBD-4A82-AC1D-E0BCFDA4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D9F3F-E74A-4959-A31E-1FBD4114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8B41A-85BB-4BBA-A771-34503A7C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2DC34-150C-4F08-89BB-7257FB43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E6310-CA9E-42E2-AA95-A98ECF8F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72A-60AC-4E82-B930-5B9ED7E4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7AB37-D9CD-46F3-BA7A-081F5941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368E1-5DD2-4CD5-A38C-54D1E0C6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2F71C-C11A-4FBE-AEFE-D7D261F7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7CC20-969E-4140-80E5-AAA86D74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56233-84EF-4384-B229-2551E0D9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15C23-D0A0-4951-8524-CED2E7B0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656EF-EB88-49F3-8B07-E4CEEDEA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CE094-E28C-4356-90DD-7C83EEC9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6C826-4B85-4516-9796-6AA80EBC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DAB02-D803-402D-B1E9-08D31A7C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8DD-0962-423F-82AF-903B7E35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199AC-07D6-4E22-B98E-A9CFE62B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D23AC-510E-4B67-9B87-A10745F5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00893-BDBC-4372-9801-11B7035C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76CE8-3EFF-492D-A5D0-2097C862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1C033-B145-4B5B-87F1-AD04CCE4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20633-2848-47FF-B0BF-14C25963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11C0C-96CB-4A99-830B-5C9C402D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76C75-EBDB-43DB-B152-75F2758D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AE8F1-B3CF-4E6A-9F52-2E7DF078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33382-365C-4207-A173-1C1BF368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CC39-588F-4161-BB1E-16BADDCA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0327C-4606-4F1E-A886-1CE7EE79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7E4C3-38B5-4004-9003-A93BCB2B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BBF34-9CE4-47A2-8FCD-E4E07D8A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CF3F1-8B46-4015-8710-8DE2EB9E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44F00-D389-44B4-B9AA-C057C2D6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4DAA1-582C-4E44-A1DA-4DD967E3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4C158-16EF-4F5B-977C-FE7D965B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FD734-FF81-4D14-BE1C-0F210583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F3486-FB16-48E8-BFCA-DC6C600F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3A9BC-3675-4906-B5D7-85946CA8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AF43-7379-40D2-ABE3-5A9382A4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51C8A-8907-425F-9846-699D4E82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C2132-749A-41BE-8524-D817DA24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F2652-5FF4-40FB-B481-AD91A1F2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519AC-89EF-44D9-82F1-4972A504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BC6E5-2FD6-45DE-B3E8-46798667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F0CC5-2491-4E18-B50A-35402BA2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37B1E-9B38-4941-B62D-8105DE33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9DB21-A13B-47EA-B048-B117D930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E33C7-C766-48B3-A869-4711A94D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EA9146-09DF-4A76-8F6D-BA6F37EF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CDFB-2AFE-484C-8B9C-2087D641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A5440-34B7-409C-9857-93BCE0D2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6A241D-ED5B-40E8-931C-10CE4A8B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ECC73-C3C6-46E5-AC95-6CB2A0A9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DD82A-CC3C-4F4C-94DD-32E334FD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95070-9B9C-4C74-8FAA-608E84E1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676039-39FA-4E9D-A457-7D4B3DD6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6B007-0AF0-4B72-92ED-77B3F0DE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E544CF-5072-4905-9D5A-CBAA26E8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D8946B-FAC3-4FD5-ACE3-A25F86F9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52F7D0-C741-4469-8A68-3DD216EC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B8C7-F737-41B5-8A41-FB1212CE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BDD1FC-666E-45C8-9E0B-BE8CFE0A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58D56A-618D-4C5E-9BBC-42DF29FC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A5F78-2DE8-498C-987B-C0A9289B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F136C0-94F6-453D-B717-CBC9F091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6D61B-EB42-45CB-8D92-711D84A7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4FC67B-E1CA-4567-BBEC-4FEA84A2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49D33E-FE67-4081-B52C-B92110D1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87BDB1-D617-4E7B-80D2-11026AE5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FAAB86-5BCE-4FE7-B871-E901B6EB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EDD2E7-3687-4912-BED4-493B1AE0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6445-81B1-42A2-BB56-C51EBF8B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F22274-93D9-4007-8E32-6A96CED0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DD23F4-B52F-4256-A407-962C0769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75F9A2-555A-48FD-82BF-871EEB41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323B58-3B09-4CA2-92CA-18A2CD66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178F76-D476-423C-A143-BDE0D423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8C3021-A21B-406C-8E85-E1353273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CC2120-F49E-4843-BA64-FB11E3D0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5E560E-CE41-4C65-8CF7-07DA1D32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F6C49E-9B22-4CC5-A9AB-6A1AA0B8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0D9D45-9151-4AD4-AA56-557437FA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3207-5EDC-426C-BEBB-3A91C2DD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EB3266-A68D-42CE-B7A7-0DBB60C5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ACC59-94B8-42DA-AF6F-3C9593FA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8AD8DC-61AB-4964-B255-FA790BC9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D1B974-783D-4C60-9C13-BD74DFFD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0EF19A-D16F-4B4F-89DF-B07CEEB8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32E360-F890-4F39-80EB-4560386E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6A662F-3DBD-40AE-9755-ABC6CD12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6077CF-B8DC-4B35-AFC8-955EE833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79A83A-AB04-440E-A39F-F77092A2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0AAD43-8C07-4221-882E-7F54D07B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DA2B-2E0D-4EF0-BF77-BE70D011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FEB628-A4DF-4E43-96C2-B9CD6A13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53DD8B-036A-4C91-B1E9-59B7BD18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3BA18D-B794-47BA-B1BD-B0E4565D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5A443D-3E48-4D48-A753-79A0A998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809ED8-D46A-4F86-9121-C2A89CEC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FF9AE0-D45B-4E6F-8AE7-41D12AAB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3B42FB-F343-46EF-A5BF-5601FB25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751E8C-AA49-489E-9597-59BBE855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CEF02D-DC15-41D9-9CA3-F6C4AAD2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437E1F-74A0-402E-9B06-C3230685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AB30-7C02-4F64-84AD-8BA2CE79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1CA9-B343-42D7-A9C8-50C24A06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CC1119-328A-465C-BD39-B8711890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57C61A-CFDB-4793-8512-B307F047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EB601B-69CE-453F-8690-AA106947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7DDE5F-B297-476F-9358-BA6B4339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E98EF8-8ED4-49D6-ABCD-27B4F074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400395-6E05-4B01-9BAC-444C9E85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E3894F-043D-41FA-9EB4-F37D4432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E81C9B-6913-4974-97ED-48BAC83B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262AB9-F491-4F03-A3B1-835D2416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B4D4F9-D7E9-46F8-A019-03EC68C6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BBAD-8064-49D4-AE3C-7776F913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0B34B3-184C-4784-8CFF-6836D6A0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F25DB4-C9F6-48D9-878E-888B6787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1CD01A-00EB-4CF9-921D-6154FAC1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38800F-5633-4D1D-B685-9ADC2003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F05A7A-3894-4A1D-B9EA-A24AF9D6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214DB8-7667-43AB-849B-292CD236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392A0F-4EDB-42BE-B5E1-3271ACFE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E73BCE-8267-4FB5-AF45-126B5316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21FB28-0AB6-4496-B2C1-D7A0D458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2111CB-9567-4987-8CC1-A0006951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B55D-44B7-481C-822B-EA684858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6AC276-A99D-43CC-BED0-E9DBBCB5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AC7917-8FDC-4FCD-BC86-2723DD30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7F4891-934C-4CD1-8A29-C1DAF50A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240D8B-F721-48F0-A0E0-E56D9F22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F5BE20-2475-44E7-842C-2680B5AA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B14ACB-736F-421D-99EB-48816D77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CA01BD-1855-429A-8935-3BE90E4A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384E4A-23DC-4214-B1CC-8809F5A1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76127D-3A5B-4615-BDC0-F173262B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4E428A-CC05-481C-8548-6773C5FC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7BBD-2414-4CC9-B68F-59F5A9F7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96F042-289C-4125-B935-11E4128B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F34C78-BCB2-44CA-9C97-FAE3073D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1199AC-16F4-4A4C-839C-1F8ACD09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9CA832-6D75-4748-A6F7-67083A69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ACB540-E584-4AC7-96A5-62500C61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4F0F89-0F09-462D-8BCE-3144B3A7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1593E6-BFC0-4A71-BD7E-898C1865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76DB8D-9989-418C-8942-1C15D0C3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3BB5D1-7E11-45C1-90D5-37C82D9E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CB8C0C-A711-4FB2-A501-0CB9FD1B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8C8A-7325-443D-8F42-C8CFFD67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0EA0E0-E89A-4C2D-8349-5C4EFAE7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CCE743-7CED-426F-AF21-94B3D729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BB08EE-52BB-43BE-91F2-D6D43F0F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3A13B9-2220-4D2D-AF6F-F3B70E5D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C1FCF8-8A6B-45AA-BD9C-3FF354A5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D684DD-4A02-4E78-91E4-0540BBFC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4ABF50-4FEC-4C56-9EA4-2DBC3AF4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AF88EA-ADA7-47F7-9E12-EB8B211A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FC7CEF-0B7E-4D38-9669-E0DB7F5D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0A3A33-8663-4A5A-B910-4E72E553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77731-51B0-4C7D-A665-3949A54B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AD535E-7B3E-4F27-9FB9-8D16A8BF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A2575A-6646-4195-B854-7178C0EB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7DB78D-E4E6-423A-95D6-773289DF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F05BAB-74F1-4636-A74E-122FB4E5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2575B1-5D6F-4632-8BA7-C034BAB6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9281E4-2BDE-48FA-A496-B5663FD5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DD78FA-3491-4C4B-B028-1A267DE1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98ECC5-3B18-4DF6-9D16-8D733BEE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66CF4A-59C0-4E8D-808A-91D62077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C7C425-A222-43FE-9783-B17B01C7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A6253-372B-4D42-868B-6CA7B27B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DCA657-939E-4B15-9834-6EB106AD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7CB7A4-272C-4EA3-B9C1-D90A2EDA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ADCD6F-6954-4463-8930-50231051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075A4A-CCA2-470F-8201-233CE50D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A7688D-021D-48EE-8BA6-2CF95516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ABF5B1-A516-4B4A-93AF-01717011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E22A6C-34BC-44AE-898B-9E847B89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C0D391-2EBA-4EE3-8ACA-29288141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FC8EAF-980D-4DD4-9289-D04A9126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787398-97E1-4E64-9043-FB941504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1BCC3-D2B5-43AD-927A-C3921915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A9F52A-5514-4301-8720-3E831B1E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3A93DB-5808-499B-A2AB-62E057E4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A59A51-6151-4F30-9A87-86529A68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30AFDB-8B17-49D6-B9DF-63327A99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0985A3-28D9-432A-B254-9ED14C51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92A002-BC39-4EB9-AAE6-5144AABC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97369A-8ED5-4072-8B62-BBEA5198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A245AC-886D-4301-94D3-5141603F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3BD9F5-F840-48B5-B66A-071F3AAE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95334F-5C08-4AB1-BE51-14A7537A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029D1-E603-41DA-8E3C-66331AC2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6FE5F4-3525-41A7-A6C2-665EE4BE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5AA937-848A-4590-8F19-C3EF074E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5C2E79-B709-49BC-AC12-9473F7DD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5C0063-5A61-48FF-A17B-4CDA2A0C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DBA2DE-D9DC-4141-B2DF-19122AF1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CC7F2D-3023-4A69-ACBE-A8A6DBDF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2ACBDE-9D1B-4E3D-89E0-3DDE659A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321855-19A5-4F9E-A792-0A73543E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248123-7DAA-4C24-BDCD-375CA806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C7CD49-9EC2-4D95-8B69-A87C95C3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8DB84-E686-4E59-9E15-E5708FC0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0A7745-C8F4-4553-8E8F-A7B45A24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6A6FF4-EF45-4A69-AD0D-23DF73C0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886331-9AA2-451A-BF99-46505F85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8281E0-DCFB-4AC8-8C08-D8F5C230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DDF798-9ABE-49A8-9B4E-4E188966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64CDCE-5BD9-4BD8-B54B-2ED4CA32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C8A92C-565E-4A36-A6A6-922C1CCA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4736B0-5DBA-4998-B622-84DD9B4F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3BFD3A-C464-4ED7-A82B-C94B372E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A31940-A157-4E82-B7E9-3BF7C9E0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428-0025-4249-B84C-F5FF7536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C8012-DA41-4682-9BC7-7FF77DD7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524F4F-1BD6-43F7-A095-C53B1B5C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0C1C72-8533-4099-ACFD-A54F352C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2F0336-35C0-42CA-962C-84EDBB78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9FF4D1-2EB7-4EBE-B708-2C8ECA03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569CD2-43CF-43C1-9113-522F5E3F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244C4F-135B-44B6-A04E-A161AD34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189539-7708-42D8-B7E9-3B15FAAF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CAC669-31EA-417C-AE88-3F9F2941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250694-5B28-49A3-878F-4F00994F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F06057-1FC5-454E-90E7-56656C38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85BF4-ACB2-4658-98F2-A221F9A8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797E39-2E10-4299-B63E-BB5B735F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773511-C4F4-45B4-BF3D-63073D59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C69904-F6D1-4E89-A5D3-2C0F6AD6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6F7C2E-D7F9-472A-BE9B-B7C6ADC6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16EF18-2157-4E50-81F2-8A690C12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A87E8E-737B-4F1F-B7E3-73F641CF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9E7990-259A-4082-8957-75303EB1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631BD9-7727-43EA-896B-A470E23F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C6BEFF-4F2F-4459-A3B6-051545A3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F90E32-9927-4CE8-AAEE-C7246FFF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6DDE6-6062-4C79-A44E-492E2601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33D073-8F6A-43E3-8238-F8B161D6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128921-0FA7-440D-AA72-7031CD6C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EE5A28-DB3C-4836-B29F-6A0027A7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1D689F-1651-4286-B1F5-618CF3FF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2E244B-AEC1-4998-9DAC-3584BAEB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AF6224-BA76-4B65-A6B5-FCCB4B7F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D7ABF7-673B-4B05-A8E0-8EEB1806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E37923-24E6-4253-BC80-D43E26E8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6A4B93-CFFA-4CBF-B8FD-B7E8032D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2AF410-0B36-4BE6-89A4-9DD4C8E7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56B5F-9DC9-45FF-9C71-4AD21DB6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70CB8A-0E2E-4919-B59E-797CC1DB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817D53-4BB4-487F-BFDB-6B3B7859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104417-A340-4CD0-BDEA-5BD53CB4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53BF36-593C-456C-B9EB-1A6B9CFD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86C3F9-4426-4E95-85C7-124F8677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CCC58A-F52F-4171-8880-BAAD5421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EBA8DD-0655-4879-93E7-E4ABAC15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0DA3C5-6366-4067-836E-DB8D1F72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7947AE-4E6C-4E44-A0E9-F0E6ECFC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A245CD-22E4-43FC-9B10-7DBBBAC1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E5E9E-B92E-4247-BE2C-589FFD10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B32D6E-72F6-4B7B-B136-3FC1A858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6B40CD-D578-45A1-B709-271766FC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A522A8-EEEB-49CE-9A9B-30F05936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5E1DD2-68CA-4DF3-B82F-51675F1E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08DD6E-A9D4-4716-9013-F803E8D1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0879BF-2ED7-4A84-8C36-3465EFAC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F09FB84-AED2-4E86-93C1-7FC59894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41F494-9C30-487A-BFBC-28ACEC21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771D82-7D7A-41F7-814B-0235F1B7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2A390B-0D5F-4C6A-88D4-B5ACFF08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4E5D2-1EF7-4740-9048-5E9485C5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7CEEFC-9011-4978-A4FB-C96680BB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A6C6F6-32AA-4AB5-A0B7-9263595E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D83BF5-CE7D-4BCC-AE47-980DFD69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1C8C2D-A031-4B82-928A-372E0AE7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B23C27-B737-4F9E-AF37-C387F558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E84F5E-9071-4DE6-BFFE-BCF4B7B9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C5933A-758C-463C-9C6A-12DA45B8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84CCCE-06C0-4957-B1CC-C92BDE20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DCE6CA-81A6-4B0F-A1B6-1C9C3988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C12CC0-9774-4927-904F-A99E8316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8F1D1-FFFA-4009-9835-CD44E3E2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FABC43-C6D1-4A2E-ACC9-BB5739CA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E7A468-B4D8-470C-BC1E-85431EA4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9D6099-D056-4C42-BC9E-76F3C4B8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69F5F9-E6DA-405D-8A1B-21CF6069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105174-08EC-422F-A1B1-FFC05726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36CBA6-970B-427A-82D6-92181CE1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6DBCE1-6AE4-41E7-B200-6E50ADBB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7F3B5F-09B9-48E6-94A9-E77BF647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33A22A-744A-46C0-8169-3A61BC90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710ABF-92D9-444C-9804-95FE7D46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DC635-5499-4B51-948F-33015D8E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E432F7-5A1F-46D6-955E-AA2A638B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BD7F22-74B0-4356-9E39-FD399554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626B0E-0D93-43D0-93B8-5A646695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1C954-F1CB-4A26-B1D8-E79B2B65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8CFEA-730E-43C6-A7DE-0C4C3C15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2A66-FA75-4196-836B-DA48551F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6F549-1302-4958-B9BB-8D015EDB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CAF03-617F-46FB-963A-CDD68FF8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FA503-B139-4D58-8466-D1BD6C51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52A58-4757-4577-8A76-0B775F07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5B641-F1C3-4899-A200-8D2A76AA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86F62-D3F5-4B28-9FF9-E44CC573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B5553-38BB-43B1-B922-740195D2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67138-C067-4706-A4C5-96CD94E0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3F9B5-8719-40BC-A19A-D560CD3F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CAD84-BAB9-44F3-842C-E769E350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A229-B429-4DD0-A0D3-BE0E18C3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79F61-06E7-4366-92B4-0D87C025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230DA-60D4-466A-BA4E-927CD74A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04A5D-8058-4D7B-8C49-F0C19F8D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9729B-1443-46E6-8AAC-2039BD1C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765C4-2F6B-4375-993C-DC6E8051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33443-4472-4A42-A3AE-2EC4AF55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C6F8E-CC81-42B8-8215-AFD685A4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EEB4D-2DE7-4864-BB1C-C17A1ED0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45D65-A09F-4567-BC6E-43280C90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875C1-529E-490B-A4F0-6CBFC892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29C-0DBB-4070-8EFE-0C139A92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E79B7-9A3B-4B72-AB6F-A4615C7C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A8688-C598-4D68-A7EA-FAD06774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A82F9-775A-46F8-882A-A4212952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2892C-C76C-419F-9084-C6671620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CBF06-8451-407E-A33A-A59FAA8B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58154-F772-4C8E-963B-A9DBDD4A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AD7C8-CC89-406F-A5A1-0DA16617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ECEF3-C034-48CA-AC55-C31E22E2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E6C0F-9FB1-47D6-B670-112AE85A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21F38-29BB-47AC-9037-F534FC63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0EA-5C55-43CB-8DC5-66CE6478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B461D-322E-48BE-95E9-96EF9F23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76237-1A94-4872-AA47-7F5CA708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5BD88-1965-47F6-902F-2BFC71B7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FE89E-66DF-4666-9420-A35C577E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BA9B2-F98B-41E8-A629-AD1C9F84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1AD05-DED2-47F5-844B-7EDA1ABE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86F71-AAE3-419A-9507-8B8955AF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470BA-A8F5-4489-AC9E-150489DB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B4022-0AAE-4726-869E-44609610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1029C-796B-4DC7-8529-C8061AF2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4B7-2577-406D-B917-0045961D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A3A92-353F-467E-AA94-42CFDFB3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B72A2-743C-45FB-AF34-28B38862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CA45D-4AE4-4CA0-8B61-C55ABDBF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3B373-A38F-47AE-9F38-025CFA23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72AB0-0733-44FA-8990-8BB78946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E99EF-A6B2-4B7F-A5B8-72377421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772DF-1F62-422B-BC85-72E874B3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AB6A6-EF7C-49DB-9FF5-D1A14331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77D41-768C-4A0B-ADB3-95B5F4DB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0CE26-0501-4F11-819B-B04C66F9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1747-F570-4CCA-8E7B-72945CFB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35696-4E9E-4CDD-88CF-472C99B0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E8969-C911-4473-9CB8-65CEF163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34B19-C8B4-46F0-9358-4968DA6E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58454-CC96-4DA9-BD56-BE2B8277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C322D-8491-4FBF-833D-7F530661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36537-0FD8-447D-8F90-1FFCE5B8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FD7D5-C18F-4182-8036-65B71532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3E912-8C47-47A2-8C66-947A30E4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B0A42-D7FE-4445-885E-6A42D2A9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17123-8F76-4393-8465-1BCC0E0B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1ADB-69F5-4602-B7AD-7228F98F9A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69DD-024A-42A7-80B0-B91D2C58A5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5466-22C4-4990-8808-A75D2297AD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FC66-88F8-4004-A961-7808358817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9EA0-78D3-4FCD-86CB-9AB053A7D1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EC38-1F86-4CC5-B0BD-92A262360B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38A9-F39B-477D-A0BA-67F928BE63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97D1-AFEB-407C-8494-FE8AAD4524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2B1B-A59C-433C-8E2C-CC534660B4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6A6F-8770-42EF-9D84-E4E6FDC3FF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3A4A-D4EE-4EF4-9C09-B0CF2709EC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1281-9E40-41CC-8B04-AC85661CA0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8334-DF07-433C-9C97-490563546E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CA52-6820-4192-9475-0C9ED96E5E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1FE6-4703-4A3C-9CD5-D9A9381226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65FE-9660-40A4-8FE3-AD7CBB8537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467F-DA8F-47B1-B81F-7FC09F103D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59E5-9F69-449B-A147-FB042B8ED9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AFD0-A9A8-4E37-A10B-F0B63B9813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0E47-8D03-4426-BF50-0CD099A717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CC75-C654-4606-A629-DCDA07F5C9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5BF6-8FF2-4E30-8A08-69F9A8C1C2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C333-6C9A-4C6E-A9E1-C2FD564B9F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E4D0-5369-4A6B-81CE-7A3A88CAB8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B4B5-EDEF-442D-B831-8E3A9CAA9B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C32D-7AAD-4124-B95E-86D1622BAB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8649-4378-4E33-9CD2-515C90D001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5522-EA6B-41DB-9993-BF5E93DCD8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F457-B48D-4E81-9208-AB1118FECF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9E3C-EE21-4828-BBF7-3A1C8A9D96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5B60-B121-4E02-8368-F643B59F1C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76C4-3BEA-4A21-A071-E893805863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DBCE-2E06-4AE4-9EA8-ED492F7FFE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98F8-C2D2-4EF3-86F9-04CF184849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E8A4-DE37-4FD7-B0C8-F9397412A0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43D9-82F3-4F4D-8F08-77B617F672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B5D6-E37B-4889-A93B-B1C8D54FEC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481B-BABB-4572-863D-0E64735175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B57E-CFFF-41C3-AE54-D466F62120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262C-C9FF-4665-B277-D867A21436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2148-8536-41F0-80C8-23742E1145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0965-FE55-490B-B158-5A42C20CC4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4E4D-FC8E-4759-8875-5823A34F9B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7657-0351-48BB-9FBC-2B735D6C2A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DEBE-B204-4574-AD4E-928AEB764B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DDF5-A135-4A79-8075-CA3060F824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F0DA-DC16-471A-94FA-E629FDA2E1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018D-3EF6-4898-86CC-ED0B0EBD00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4012-8469-4DFB-9939-E7F1B39D97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D9A8-2F99-4803-A9CF-15F5E69840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2390760" y="1012680"/>
            <a:ext cx="4057560" cy="43812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6" descr=""/>
          <p:cNvPicPr/>
          <p:nvPr/>
        </p:nvPicPr>
        <p:blipFill>
          <a:blip r:embed="rId2"/>
          <a:stretch/>
        </p:blipFill>
        <p:spPr>
          <a:xfrm>
            <a:off x="3029040" y="2297160"/>
            <a:ext cx="3085920" cy="414324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7"/>
          <p:cNvSpPr/>
          <p:nvPr/>
        </p:nvSpPr>
        <p:spPr>
          <a:xfrm>
            <a:off x="4211640" y="4253040"/>
            <a:ext cx="21891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40988"/>
          <p:cNvSpPr/>
          <p:nvPr/>
        </p:nvSpPr>
        <p:spPr>
          <a:xfrm>
            <a:off x="2968560" y="4540320"/>
            <a:ext cx="3267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40989"/>
          <p:cNvSpPr/>
          <p:nvPr/>
        </p:nvSpPr>
        <p:spPr>
          <a:xfrm>
            <a:off x="2833560" y="4818240"/>
            <a:ext cx="3267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40990"/>
          <p:cNvSpPr/>
          <p:nvPr/>
        </p:nvSpPr>
        <p:spPr>
          <a:xfrm>
            <a:off x="2854440" y="5084640"/>
            <a:ext cx="3267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40991"/>
          <p:cNvSpPr/>
          <p:nvPr/>
        </p:nvSpPr>
        <p:spPr>
          <a:xfrm>
            <a:off x="2886120" y="5362560"/>
            <a:ext cx="3267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40992"/>
          <p:cNvSpPr/>
          <p:nvPr/>
        </p:nvSpPr>
        <p:spPr>
          <a:xfrm>
            <a:off x="2927520" y="5649840"/>
            <a:ext cx="3267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40993"/>
          <p:cNvSpPr/>
          <p:nvPr/>
        </p:nvSpPr>
        <p:spPr>
          <a:xfrm>
            <a:off x="2874960" y="5927760"/>
            <a:ext cx="3267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40994"/>
          <p:cNvSpPr/>
          <p:nvPr/>
        </p:nvSpPr>
        <p:spPr>
          <a:xfrm>
            <a:off x="2865600" y="6235560"/>
            <a:ext cx="3267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1" name="图片 132097" descr=""/>
          <p:cNvPicPr/>
          <p:nvPr/>
        </p:nvPicPr>
        <p:blipFill>
          <a:blip r:embed="rId1"/>
          <a:stretch/>
        </p:blipFill>
        <p:spPr>
          <a:xfrm>
            <a:off x="344520" y="865080"/>
            <a:ext cx="8124840" cy="5762880"/>
          </a:xfrm>
          <a:prstGeom prst="rect">
            <a:avLst/>
          </a:prstGeom>
          <a:ln w="0">
            <a:noFill/>
          </a:ln>
        </p:spPr>
      </p:pic>
      <p:sp>
        <p:nvSpPr>
          <p:cNvPr id="1392" name="矩形 132098"/>
          <p:cNvSpPr/>
          <p:nvPr/>
        </p:nvSpPr>
        <p:spPr>
          <a:xfrm>
            <a:off x="976320" y="4213080"/>
            <a:ext cx="493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132099"/>
          <p:cNvSpPr/>
          <p:nvPr/>
        </p:nvSpPr>
        <p:spPr>
          <a:xfrm>
            <a:off x="873000" y="4707000"/>
            <a:ext cx="493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132100"/>
          <p:cNvSpPr/>
          <p:nvPr/>
        </p:nvSpPr>
        <p:spPr>
          <a:xfrm>
            <a:off x="1089000" y="5302080"/>
            <a:ext cx="493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矩形 132101"/>
          <p:cNvSpPr/>
          <p:nvPr/>
        </p:nvSpPr>
        <p:spPr>
          <a:xfrm>
            <a:off x="1038240" y="5919840"/>
            <a:ext cx="639144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6" name="图片 131073" descr=""/>
          <p:cNvPicPr/>
          <p:nvPr/>
        </p:nvPicPr>
        <p:blipFill>
          <a:blip r:embed="rId1"/>
          <a:stretch/>
        </p:blipFill>
        <p:spPr>
          <a:xfrm>
            <a:off x="693720" y="1012680"/>
            <a:ext cx="6639120" cy="2266920"/>
          </a:xfrm>
          <a:prstGeom prst="rect">
            <a:avLst/>
          </a:prstGeom>
          <a:ln w="0">
            <a:noFill/>
          </a:ln>
        </p:spPr>
      </p:pic>
      <p:sp>
        <p:nvSpPr>
          <p:cNvPr id="1397" name="矩形 131074"/>
          <p:cNvSpPr/>
          <p:nvPr/>
        </p:nvSpPr>
        <p:spPr>
          <a:xfrm>
            <a:off x="841320" y="1068480"/>
            <a:ext cx="676116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131075"/>
          <p:cNvSpPr/>
          <p:nvPr/>
        </p:nvSpPr>
        <p:spPr>
          <a:xfrm>
            <a:off x="758880" y="1941480"/>
            <a:ext cx="676116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矩形 131076"/>
          <p:cNvSpPr/>
          <p:nvPr/>
        </p:nvSpPr>
        <p:spPr>
          <a:xfrm>
            <a:off x="730080" y="2846520"/>
            <a:ext cx="5929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0" name="图片 130050" descr=""/>
          <p:cNvPicPr/>
          <p:nvPr/>
        </p:nvPicPr>
        <p:blipFill>
          <a:blip r:embed="rId1"/>
          <a:stretch/>
        </p:blipFill>
        <p:spPr>
          <a:xfrm>
            <a:off x="260280" y="893880"/>
            <a:ext cx="81154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1" name="图片 129025" descr=""/>
          <p:cNvPicPr/>
          <p:nvPr/>
        </p:nvPicPr>
        <p:blipFill>
          <a:blip r:embed="rId1"/>
          <a:stretch/>
        </p:blipFill>
        <p:spPr>
          <a:xfrm>
            <a:off x="550800" y="890640"/>
            <a:ext cx="7839000" cy="4924440"/>
          </a:xfrm>
          <a:prstGeom prst="rect">
            <a:avLst/>
          </a:prstGeom>
          <a:ln w="0">
            <a:noFill/>
          </a:ln>
        </p:spPr>
      </p:pic>
      <p:sp>
        <p:nvSpPr>
          <p:cNvPr id="1402" name="矩形 129026"/>
          <p:cNvSpPr/>
          <p:nvPr/>
        </p:nvSpPr>
        <p:spPr>
          <a:xfrm>
            <a:off x="728640" y="5024520"/>
            <a:ext cx="3011400" cy="7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3" name="图片 128001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134120" cy="3886200"/>
          </a:xfrm>
          <a:prstGeom prst="rect">
            <a:avLst/>
          </a:prstGeom>
          <a:ln w="0">
            <a:noFill/>
          </a:ln>
        </p:spPr>
      </p:pic>
      <p:sp>
        <p:nvSpPr>
          <p:cNvPr id="1404" name="矩形 128002"/>
          <p:cNvSpPr/>
          <p:nvPr/>
        </p:nvSpPr>
        <p:spPr>
          <a:xfrm>
            <a:off x="790560" y="1038240"/>
            <a:ext cx="734688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矩形 128003"/>
          <p:cNvSpPr/>
          <p:nvPr/>
        </p:nvSpPr>
        <p:spPr>
          <a:xfrm>
            <a:off x="801720" y="1747800"/>
            <a:ext cx="5692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矩形 128004"/>
          <p:cNvSpPr/>
          <p:nvPr/>
        </p:nvSpPr>
        <p:spPr>
          <a:xfrm>
            <a:off x="709560" y="2333520"/>
            <a:ext cx="547848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矩形 128005"/>
          <p:cNvSpPr/>
          <p:nvPr/>
        </p:nvSpPr>
        <p:spPr>
          <a:xfrm>
            <a:off x="658800" y="3206880"/>
            <a:ext cx="679284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矩形 128006"/>
          <p:cNvSpPr/>
          <p:nvPr/>
        </p:nvSpPr>
        <p:spPr>
          <a:xfrm>
            <a:off x="566640" y="4130640"/>
            <a:ext cx="679284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1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图片 140289" descr=""/>
          <p:cNvPicPr/>
          <p:nvPr/>
        </p:nvPicPr>
        <p:blipFill>
          <a:blip r:embed="rId1"/>
          <a:stretch/>
        </p:blipFill>
        <p:spPr>
          <a:xfrm>
            <a:off x="403200" y="849240"/>
            <a:ext cx="6448320" cy="1371600"/>
          </a:xfrm>
          <a:prstGeom prst="rect">
            <a:avLst/>
          </a:prstGeom>
          <a:ln w="0">
            <a:noFill/>
          </a:ln>
        </p:spPr>
      </p:pic>
      <p:pic>
        <p:nvPicPr>
          <p:cNvPr id="1342" name="图片 140290" descr=""/>
          <p:cNvPicPr/>
          <p:nvPr/>
        </p:nvPicPr>
        <p:blipFill>
          <a:blip r:embed="rId2"/>
          <a:stretch/>
        </p:blipFill>
        <p:spPr>
          <a:xfrm>
            <a:off x="412920" y="2365200"/>
            <a:ext cx="8496000" cy="2686320"/>
          </a:xfrm>
          <a:prstGeom prst="rect">
            <a:avLst/>
          </a:prstGeom>
          <a:ln w="0">
            <a:noFill/>
          </a:ln>
        </p:spPr>
      </p:pic>
      <p:sp>
        <p:nvSpPr>
          <p:cNvPr id="1343" name="矩形 140291"/>
          <p:cNvSpPr/>
          <p:nvPr/>
        </p:nvSpPr>
        <p:spPr>
          <a:xfrm>
            <a:off x="1766880" y="1571760"/>
            <a:ext cx="1500120" cy="27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40292"/>
          <p:cNvSpPr/>
          <p:nvPr/>
        </p:nvSpPr>
        <p:spPr>
          <a:xfrm>
            <a:off x="3933720" y="1571760"/>
            <a:ext cx="617760" cy="27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40293"/>
          <p:cNvSpPr/>
          <p:nvPr/>
        </p:nvSpPr>
        <p:spPr>
          <a:xfrm>
            <a:off x="4807080" y="2352600"/>
            <a:ext cx="61740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40294"/>
          <p:cNvSpPr/>
          <p:nvPr/>
        </p:nvSpPr>
        <p:spPr>
          <a:xfrm>
            <a:off x="1355760" y="2681280"/>
            <a:ext cx="61740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40295"/>
          <p:cNvSpPr/>
          <p:nvPr/>
        </p:nvSpPr>
        <p:spPr>
          <a:xfrm>
            <a:off x="4211640" y="3040200"/>
            <a:ext cx="617400" cy="27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40296"/>
          <p:cNvSpPr/>
          <p:nvPr/>
        </p:nvSpPr>
        <p:spPr>
          <a:xfrm>
            <a:off x="5845320" y="3040200"/>
            <a:ext cx="617400" cy="27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40297"/>
          <p:cNvSpPr/>
          <p:nvPr/>
        </p:nvSpPr>
        <p:spPr>
          <a:xfrm>
            <a:off x="2763720" y="3379680"/>
            <a:ext cx="61776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40298"/>
          <p:cNvSpPr/>
          <p:nvPr/>
        </p:nvSpPr>
        <p:spPr>
          <a:xfrm>
            <a:off x="3328920" y="3728880"/>
            <a:ext cx="190188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40299"/>
          <p:cNvSpPr/>
          <p:nvPr/>
        </p:nvSpPr>
        <p:spPr>
          <a:xfrm>
            <a:off x="2752560" y="4211640"/>
            <a:ext cx="127476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40300"/>
          <p:cNvSpPr/>
          <p:nvPr/>
        </p:nvSpPr>
        <p:spPr>
          <a:xfrm>
            <a:off x="4521240" y="4098960"/>
            <a:ext cx="315432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40302"/>
          <p:cNvSpPr/>
          <p:nvPr/>
        </p:nvSpPr>
        <p:spPr>
          <a:xfrm>
            <a:off x="2023920" y="4705200"/>
            <a:ext cx="61776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40303"/>
          <p:cNvSpPr/>
          <p:nvPr/>
        </p:nvSpPr>
        <p:spPr>
          <a:xfrm>
            <a:off x="5948280" y="4705200"/>
            <a:ext cx="61776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图片 139265" descr=""/>
          <p:cNvPicPr/>
          <p:nvPr/>
        </p:nvPicPr>
        <p:blipFill>
          <a:blip r:embed="rId1"/>
          <a:stretch/>
        </p:blipFill>
        <p:spPr>
          <a:xfrm>
            <a:off x="320760" y="865080"/>
            <a:ext cx="8553240" cy="3781440"/>
          </a:xfrm>
          <a:prstGeom prst="rect">
            <a:avLst/>
          </a:prstGeom>
          <a:ln w="0">
            <a:noFill/>
          </a:ln>
        </p:spPr>
      </p:pic>
      <p:sp>
        <p:nvSpPr>
          <p:cNvPr id="1356" name="矩形 139266"/>
          <p:cNvSpPr/>
          <p:nvPr/>
        </p:nvSpPr>
        <p:spPr>
          <a:xfrm>
            <a:off x="8280360" y="19731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7" name="图片 138241" descr=""/>
          <p:cNvPicPr/>
          <p:nvPr/>
        </p:nvPicPr>
        <p:blipFill>
          <a:blip r:embed="rId1"/>
          <a:stretch/>
        </p:blipFill>
        <p:spPr>
          <a:xfrm>
            <a:off x="403200" y="954000"/>
            <a:ext cx="8591400" cy="4391280"/>
          </a:xfrm>
          <a:prstGeom prst="rect">
            <a:avLst/>
          </a:prstGeom>
          <a:ln w="0">
            <a:noFill/>
          </a:ln>
        </p:spPr>
      </p:pic>
      <p:sp>
        <p:nvSpPr>
          <p:cNvPr id="1358" name="矩形 138242"/>
          <p:cNvSpPr/>
          <p:nvPr/>
        </p:nvSpPr>
        <p:spPr>
          <a:xfrm>
            <a:off x="8372520" y="9558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8243"/>
          <p:cNvSpPr/>
          <p:nvPr/>
        </p:nvSpPr>
        <p:spPr>
          <a:xfrm>
            <a:off x="2576520" y="3247920"/>
            <a:ext cx="12542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8244"/>
          <p:cNvSpPr/>
          <p:nvPr/>
        </p:nvSpPr>
        <p:spPr>
          <a:xfrm>
            <a:off x="5289480" y="39258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8245"/>
          <p:cNvSpPr/>
          <p:nvPr/>
        </p:nvSpPr>
        <p:spPr>
          <a:xfrm>
            <a:off x="1170000" y="4984920"/>
            <a:ext cx="7603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2" name="图片 137217" descr=""/>
          <p:cNvPicPr/>
          <p:nvPr/>
        </p:nvPicPr>
        <p:blipFill>
          <a:blip r:embed="rId1"/>
          <a:stretch/>
        </p:blipFill>
        <p:spPr>
          <a:xfrm>
            <a:off x="428760" y="941400"/>
            <a:ext cx="8362800" cy="3476520"/>
          </a:xfrm>
          <a:prstGeom prst="rect">
            <a:avLst/>
          </a:prstGeom>
          <a:ln w="0">
            <a:noFill/>
          </a:ln>
        </p:spPr>
      </p:pic>
      <p:sp>
        <p:nvSpPr>
          <p:cNvPr id="1363" name="矩形 137218"/>
          <p:cNvSpPr/>
          <p:nvPr/>
        </p:nvSpPr>
        <p:spPr>
          <a:xfrm>
            <a:off x="595440" y="2414520"/>
            <a:ext cx="6740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137219"/>
          <p:cNvSpPr/>
          <p:nvPr/>
        </p:nvSpPr>
        <p:spPr>
          <a:xfrm>
            <a:off x="554040" y="2763720"/>
            <a:ext cx="6740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矩形 137220"/>
          <p:cNvSpPr/>
          <p:nvPr/>
        </p:nvSpPr>
        <p:spPr>
          <a:xfrm>
            <a:off x="574560" y="3154320"/>
            <a:ext cx="6720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矩形 137221"/>
          <p:cNvSpPr/>
          <p:nvPr/>
        </p:nvSpPr>
        <p:spPr>
          <a:xfrm>
            <a:off x="604800" y="3749760"/>
            <a:ext cx="6740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137222"/>
          <p:cNvSpPr/>
          <p:nvPr/>
        </p:nvSpPr>
        <p:spPr>
          <a:xfrm>
            <a:off x="625320" y="4079880"/>
            <a:ext cx="7767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8" name="图片 136193" descr=""/>
          <p:cNvPicPr/>
          <p:nvPr/>
        </p:nvPicPr>
        <p:blipFill>
          <a:blip r:embed="rId1"/>
          <a:stretch/>
        </p:blipFill>
        <p:spPr>
          <a:xfrm>
            <a:off x="349200" y="925560"/>
            <a:ext cx="8191440" cy="4676760"/>
          </a:xfrm>
          <a:prstGeom prst="rect">
            <a:avLst/>
          </a:prstGeom>
          <a:ln w="0">
            <a:noFill/>
          </a:ln>
        </p:spPr>
      </p:pic>
      <p:sp>
        <p:nvSpPr>
          <p:cNvPr id="1369" name="矩形 136194"/>
          <p:cNvSpPr/>
          <p:nvPr/>
        </p:nvSpPr>
        <p:spPr>
          <a:xfrm>
            <a:off x="7694640" y="31352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0" name="图片 135169" descr=""/>
          <p:cNvPicPr/>
          <p:nvPr/>
        </p:nvPicPr>
        <p:blipFill>
          <a:blip r:embed="rId1"/>
          <a:stretch/>
        </p:blipFill>
        <p:spPr>
          <a:xfrm>
            <a:off x="204840" y="927000"/>
            <a:ext cx="8124840" cy="5181840"/>
          </a:xfrm>
          <a:prstGeom prst="rect">
            <a:avLst/>
          </a:prstGeom>
          <a:ln w="0">
            <a:noFill/>
          </a:ln>
        </p:spPr>
      </p:pic>
      <p:sp>
        <p:nvSpPr>
          <p:cNvPr id="1371" name="矩形 135170"/>
          <p:cNvSpPr/>
          <p:nvPr/>
        </p:nvSpPr>
        <p:spPr>
          <a:xfrm>
            <a:off x="7531200" y="15112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5171"/>
          <p:cNvSpPr/>
          <p:nvPr/>
        </p:nvSpPr>
        <p:spPr>
          <a:xfrm>
            <a:off x="934920" y="4592520"/>
            <a:ext cx="68904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5172"/>
          <p:cNvSpPr/>
          <p:nvPr/>
        </p:nvSpPr>
        <p:spPr>
          <a:xfrm>
            <a:off x="3298680" y="4592520"/>
            <a:ext cx="68904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5173"/>
          <p:cNvSpPr/>
          <p:nvPr/>
        </p:nvSpPr>
        <p:spPr>
          <a:xfrm>
            <a:off x="4890960" y="4592520"/>
            <a:ext cx="68904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135174"/>
          <p:cNvSpPr/>
          <p:nvPr/>
        </p:nvSpPr>
        <p:spPr>
          <a:xfrm>
            <a:off x="1347840" y="5148360"/>
            <a:ext cx="68904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6" name="图片 134145" descr=""/>
          <p:cNvPicPr/>
          <p:nvPr/>
        </p:nvPicPr>
        <p:blipFill>
          <a:blip r:embed="rId1"/>
          <a:stretch/>
        </p:blipFill>
        <p:spPr>
          <a:xfrm>
            <a:off x="347760" y="733320"/>
            <a:ext cx="7991280" cy="6000840"/>
          </a:xfrm>
          <a:prstGeom prst="rect">
            <a:avLst/>
          </a:prstGeom>
          <a:ln w="0">
            <a:noFill/>
          </a:ln>
        </p:spPr>
      </p:pic>
      <p:sp>
        <p:nvSpPr>
          <p:cNvPr id="1377" name="矩形 134146"/>
          <p:cNvSpPr/>
          <p:nvPr/>
        </p:nvSpPr>
        <p:spPr>
          <a:xfrm>
            <a:off x="6729480" y="18194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134147"/>
          <p:cNvSpPr/>
          <p:nvPr/>
        </p:nvSpPr>
        <p:spPr>
          <a:xfrm>
            <a:off x="944640" y="4068720"/>
            <a:ext cx="65865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矩形 134148"/>
          <p:cNvSpPr/>
          <p:nvPr/>
        </p:nvSpPr>
        <p:spPr>
          <a:xfrm>
            <a:off x="914400" y="4613400"/>
            <a:ext cx="65865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134149"/>
          <p:cNvSpPr/>
          <p:nvPr/>
        </p:nvSpPr>
        <p:spPr>
          <a:xfrm>
            <a:off x="893880" y="5106960"/>
            <a:ext cx="65865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矩形 134150"/>
          <p:cNvSpPr/>
          <p:nvPr/>
        </p:nvSpPr>
        <p:spPr>
          <a:xfrm>
            <a:off x="912960" y="5692680"/>
            <a:ext cx="658656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矩形 134151"/>
          <p:cNvSpPr/>
          <p:nvPr/>
        </p:nvSpPr>
        <p:spPr>
          <a:xfrm>
            <a:off x="1231920" y="6175440"/>
            <a:ext cx="6102360" cy="59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3" name="图片 133121" descr=""/>
          <p:cNvPicPr/>
          <p:nvPr/>
        </p:nvPicPr>
        <p:blipFill>
          <a:blip r:embed="rId1"/>
          <a:stretch/>
        </p:blipFill>
        <p:spPr>
          <a:xfrm>
            <a:off x="345960" y="981000"/>
            <a:ext cx="8020080" cy="5581800"/>
          </a:xfrm>
          <a:prstGeom prst="rect">
            <a:avLst/>
          </a:prstGeom>
          <a:ln w="0">
            <a:noFill/>
          </a:ln>
        </p:spPr>
      </p:pic>
      <p:sp>
        <p:nvSpPr>
          <p:cNvPr id="1384" name="矩形 133122"/>
          <p:cNvSpPr/>
          <p:nvPr/>
        </p:nvSpPr>
        <p:spPr>
          <a:xfrm>
            <a:off x="852480" y="2887560"/>
            <a:ext cx="775656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133123"/>
          <p:cNvSpPr/>
          <p:nvPr/>
        </p:nvSpPr>
        <p:spPr>
          <a:xfrm>
            <a:off x="822240" y="3432240"/>
            <a:ext cx="77565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矩形 133124"/>
          <p:cNvSpPr/>
          <p:nvPr/>
        </p:nvSpPr>
        <p:spPr>
          <a:xfrm>
            <a:off x="812880" y="3925800"/>
            <a:ext cx="77565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矩形 133125"/>
          <p:cNvSpPr/>
          <p:nvPr/>
        </p:nvSpPr>
        <p:spPr>
          <a:xfrm>
            <a:off x="812880" y="4541760"/>
            <a:ext cx="77565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133126"/>
          <p:cNvSpPr/>
          <p:nvPr/>
        </p:nvSpPr>
        <p:spPr>
          <a:xfrm>
            <a:off x="833400" y="5024520"/>
            <a:ext cx="77565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矩形 133127"/>
          <p:cNvSpPr/>
          <p:nvPr/>
        </p:nvSpPr>
        <p:spPr>
          <a:xfrm>
            <a:off x="812880" y="5580000"/>
            <a:ext cx="77565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133128"/>
          <p:cNvSpPr/>
          <p:nvPr/>
        </p:nvSpPr>
        <p:spPr>
          <a:xfrm>
            <a:off x="730080" y="6072120"/>
            <a:ext cx="77565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1T00:38:20Z</dcterms:modified>
  <cp:revision>6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